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32D3-1025-4A00-A97A-B377235B4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BF5A-044F-444A-BBB4-0D3347F67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F0A8-FABB-4CD3-BA19-CF7084AC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8319-3B27-4FB9-BEA3-3886D11A9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A2C9-23A0-49FE-8D0C-2BFA06C2A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4D7B-D1C9-4722-AF60-BC98BD224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7CEE-D693-4A64-BD48-63E777CFE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FE6D-73F8-41CC-956C-AB7B3F6B2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3BED-C5D1-4E15-BCC8-55D282C86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1111-A93C-4AA2-9192-FC4629550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0D39-F132-4CDF-A03A-1AA790962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9A36-DB49-498D-A60C-D95D9A9F6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713-6117-4F51-A830-DA4BBADCE6E0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ctionary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349360"/>
            <a:ext cx="6813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000" spc="-1" strike="noStrike">
                <a:solidFill>
                  <a:srgbClr val="5f5f5f"/>
                </a:solidFill>
                <a:latin typeface="Century Schoolbook"/>
                <a:cs typeface="Times New Roman"/>
              </a:rPr>
              <a:t>تطوير الباحثين الصغ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28727" t="30233" r="41747" b="14961"/>
          <a:stretch/>
        </p:blipFill>
        <p:spPr>
          <a:xfrm>
            <a:off x="1116000" y="620640"/>
            <a:ext cx="6192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836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ن أين تأتي افكار الأبحاث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98600" y="1628640"/>
            <a:ext cx="1841760" cy="1327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0" y="173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Tahoma"/>
                <a:cs typeface="Tahoma"/>
              </a:rPr>
              <a:t>هل يجب أن نعطي الطلبة الموضوع الذي سيبحثون فيه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3221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Tahoma"/>
                <a:cs typeface="Tahoma"/>
              </a:rPr>
              <a:t>هل يجب ان نترك الطلبة يختارون مواضيع  الأبحاث بأنفسهم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3698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ن أين تأتي أفكار الأبحاث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47640" y="1916280"/>
            <a:ext cx="5472360" cy="4679280"/>
            <a:chOff x="1547640" y="1916280"/>
            <a:chExt cx="5472360" cy="4679280"/>
          </a:xfrm>
        </p:grpSpPr>
        <p:sp>
          <p:nvSpPr>
            <p:cNvPr id="125" name=""/>
            <p:cNvSpPr/>
            <p:nvPr/>
          </p:nvSpPr>
          <p:spPr>
            <a:xfrm>
              <a:off x="1835280" y="1916280"/>
              <a:ext cx="2952720" cy="288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7640" y="2888640"/>
              <a:ext cx="2519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 المنهج الدراس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1916280"/>
              <a:ext cx="2952720" cy="28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7640" y="3714840"/>
              <a:ext cx="2952720" cy="28807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0720" y="2998080"/>
              <a:ext cx="2519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ثقافة المحل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5457240"/>
              <a:ext cx="2519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طل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0360" y="917640"/>
            <a:ext cx="1068480" cy="1566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54600" y="1700280"/>
            <a:ext cx="1878120" cy="485640"/>
          </a:xfrm>
          <a:prstGeom prst="wedgeRoundRectCallout">
            <a:avLst>
              <a:gd name="adj1" fmla="val -49490"/>
              <a:gd name="adj2" fmla="val 84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سؤال البح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6320" y="520560"/>
            <a:ext cx="151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Comic Sans MS"/>
                <a:cs typeface="Arial"/>
              </a:rPr>
              <a:t>الفكرة الرئيس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781360"/>
            <a:ext cx="133020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645000"/>
            <a:ext cx="118404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انواع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3645000"/>
            <a:ext cx="121752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باب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3645000"/>
            <a:ext cx="164016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حلول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0" y="4869000"/>
            <a:ext cx="16146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التلوث الجوي في قط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30480" y="5950080"/>
            <a:ext cx="34196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المصادر الرئيسية لتلوثِ الهواء في الدوحة </a:t>
            </a:r>
            <a:r>
              <a:rPr b="0" lang="ar-Q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ماذا يمكن ان نعمل بخصوصها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90880" y="2780280"/>
            <a:ext cx="10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Arial"/>
                <a:cs typeface="Arial"/>
              </a:rPr>
              <a:t>التلو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4012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Arial"/>
                <a:cs typeface="Arial"/>
              </a:rPr>
              <a:t>الفكرة الرئيسية</a:t>
            </a:r>
            <a:r>
              <a:rPr b="0" lang="ar-Q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3692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اسأل الاسئلة لتضيق نطاق البح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0360" y="494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فكرة اصغر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5875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سؤال البحث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سؤال البحث يجب أن يكون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هم بالنسبة للباحث شخصي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كتوبة بلغة واض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سؤال يمكن الاجابة عليه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طريقة البحث عن اجابة عليه واض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14628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handout: “Six Good Questions to Ask About Your Research Ques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48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 ؟</a:t>
            </a:r>
            <a:endParaRPr b="1" i="1" lang="en-US" sz="4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09800" y="2143080"/>
            <a:ext cx="35244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هو البحث ؟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0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البحث هو استفسار او تحقيق منظم وجاد في موضوع معين لاكتشاف او تعديل الحقائق ، النظريات ، التطبيقات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..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dictiona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4432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0cc99"/>
                </a:solidFill>
                <a:latin typeface="Verdana"/>
                <a:cs typeface="Arial"/>
              </a:rPr>
              <a:t>إنشاء معلومات جديدة</a:t>
            </a:r>
            <a:r>
              <a:rPr b="1" lang="ar-QA" sz="3200" spc="-1" strike="noStrike">
                <a:solidFill>
                  <a:srgbClr val="00cc99"/>
                </a:solidFill>
                <a:latin typeface="Verdana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42920" y="1413000"/>
            <a:ext cx="7416720" cy="4248000"/>
            <a:chOff x="1042920" y="1413000"/>
            <a:chExt cx="7416720" cy="4248000"/>
          </a:xfrm>
        </p:grpSpPr>
        <p:grpSp>
          <p:nvGrpSpPr>
            <p:cNvPr id="91" name=""/>
            <p:cNvGrpSpPr/>
            <p:nvPr/>
          </p:nvGrpSpPr>
          <p:grpSpPr>
            <a:xfrm>
              <a:off x="3059280" y="1413000"/>
              <a:ext cx="3168360" cy="1944720"/>
              <a:chOff x="3059280" y="1413000"/>
              <a:chExt cx="3168360" cy="1944720"/>
            </a:xfrm>
          </p:grpSpPr>
          <p:sp>
            <p:nvSpPr>
              <p:cNvPr id="92" name=""/>
              <p:cNvSpPr/>
              <p:nvPr/>
            </p:nvSpPr>
            <p:spPr>
              <a:xfrm>
                <a:off x="3059280" y="1413000"/>
                <a:ext cx="3168360" cy="19447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19640" y="2392920"/>
                <a:ext cx="24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4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أبحاث الطل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042920" y="3716280"/>
              <a:ext cx="3168360" cy="1944720"/>
              <a:chOff x="1042920" y="3716280"/>
              <a:chExt cx="3168360" cy="1944720"/>
            </a:xfrm>
          </p:grpSpPr>
          <p:sp>
            <p:nvSpPr>
              <p:cNvPr id="95" name=""/>
              <p:cNvSpPr/>
              <p:nvPr/>
            </p:nvSpPr>
            <p:spPr>
              <a:xfrm>
                <a:off x="1042920" y="3716280"/>
                <a:ext cx="3168360" cy="194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03280" y="4208760"/>
                <a:ext cx="2447640" cy="947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البحث الورقي</a:t>
                </a: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91280" y="3716280"/>
              <a:ext cx="3168360" cy="1944720"/>
              <a:chOff x="5291280" y="3716280"/>
              <a:chExt cx="3168360" cy="1944720"/>
            </a:xfrm>
          </p:grpSpPr>
          <p:sp>
            <p:nvSpPr>
              <p:cNvPr id="98" name=""/>
              <p:cNvSpPr/>
              <p:nvPr/>
            </p:nvSpPr>
            <p:spPr>
              <a:xfrm>
                <a:off x="5291280" y="3716280"/>
                <a:ext cx="3168360" cy="194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51640" y="4208760"/>
                <a:ext cx="2447640" cy="947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البحث العلمي</a:t>
                </a:r>
                <a:r>
                  <a:rPr b="1" lang="ar-QA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3492000" y="3357720"/>
              <a:ext cx="792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9640" y="3284640"/>
              <a:ext cx="86508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2360" cy="495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2920" y="1266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597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صادر تعليمية وورش عمل للبحث – شبكة المعلم</a:t>
            </a:r>
            <a:r>
              <a:rPr b="1" lang="ar-QA" sz="1600" spc="-1" strike="noStrike">
                <a:solidFill>
                  <a:srgbClr val="000000"/>
                </a:solidFill>
                <a:latin typeface="Times New Roman"/>
                <a:ea typeface="Simplified Arabic Fix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844640"/>
            <a:ext cx="720108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– موقع المجلس الأعلى للتعليم 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27120" y="11948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ttp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ducation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ov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2800" spc="-1" strike="noStrike">
                <a:solidFill>
                  <a:srgbClr val="0da9a9"/>
                </a:solidFill>
                <a:latin typeface="Century Schoolbook"/>
              </a:rPr>
              <a:t> </a:t>
            </a:r>
            <a:r>
              <a:rPr b="1" i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 موقع البحث العلمي ، منشور عليه ابحاث الطلبة 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916280"/>
            <a:ext cx="7705440" cy="453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69560" y="1339920"/>
            <a:ext cx="48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ttp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:/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duc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v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qa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sear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وقع معرض ابحاث الطلبة السنوي الأول ، حيث يمكنكم الاطلاع على شروط المشاركة والتسجيل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662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a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fair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3817" t="17512" r="11606" b="18492"/>
          <a:stretch/>
        </p:blipFill>
        <p:spPr>
          <a:xfrm>
            <a:off x="684360" y="2408400"/>
            <a:ext cx="7488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مشاركين في المؤتم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كل المدارس المستقلة الإعدادية والثانوية  مسموح لها بالمشاركة بأربعة أبحاث مختلفة- كحد أقصى - في أي من المواد التالية : اللغة العربية ، العلوم ، الرياضيات ، الدراسات الاجتماعية  واللغة الانجليزية والدراسات الإسلامية والدراسات التكا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بحاث يقوم بها فرق بحث ، فرق البحث يجب أن تكون مكونة من 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– 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طلاب بإشراف احد المدرس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7772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عرض أبحاث الطلبة السنوي الأول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2009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مسابق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تكون هناك مسابقتان في المؤتمر لتحديد البحوث الأفضل . مسابقة على مستوى طلبة المرحلة الإعدادية وآخرى على مستوى طلبة المرحلة الثانوية و ذلك لتحديد البحث الأفضل في كل ماد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عل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رياض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انجليز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إسلا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تكا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59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أي أنواع البحوث ستشارك في المؤتم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ؤتمر مفتوح لأنواع مختلفة من البحث العلمي ، الباحث قد يستخدم البحث الكمي أو الكيفي أو خليط منهما، مثلا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جارب                                          أختراع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بيانات                                        مشاريع هندس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دراسات حالة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صور / فيديو وثائقي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روايات التاريخية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400" spc="-1" strike="noStrike">
                <a:solidFill>
                  <a:srgbClr val="cc3300"/>
                </a:solidFill>
                <a:latin typeface="Arial"/>
                <a:cs typeface="Traditional Arabic"/>
              </a:rPr>
              <a:t>الأبحاث يجب أن تقدم معلومات جديدة ،</a:t>
            </a:r>
            <a:r>
              <a:rPr b="0" lang="ar-Q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QA" sz="3400" spc="-1" strike="noStrike" u="sng">
                <a:solidFill>
                  <a:srgbClr val="cc3300"/>
                </a:solidFill>
                <a:uFillTx/>
                <a:latin typeface="Arial"/>
                <a:cs typeface="Traditional Arabic"/>
              </a:rPr>
              <a:t>الأبحاث التقليدية أو المكتبية لن تكون مقبولة 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315800"/>
            <a:ext cx="806472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بحث الورقي / بحث المكتب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تعريف :</a:t>
            </a:r>
            <a:r>
              <a:rPr b="1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عطاء موضوع معين ، بحث عن معلومات بخصوص هذا الموضوع وتلخيص هذه المعلوم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ثال : كتابة تقرير عن الاحتباس الحر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ميزاته :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تعليم الطلبة  كيفية عمل بحث عن المعلومات ، كيفية تقييم المعلومات (      ثقافة المعلومات ) وكيفية تلخيص هذه المعلوم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عيوبه :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الطلبة ينسخون وينقلون المعلومات بدلاً من انشائ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كل مدرسة إعدادية أو ثانوية مستقلة  تقرر كيف تختار بحد أقصى أربعة أبحاث في أربع مواد مختلفة للمشاركة في المؤتم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ن الأفضل أن يتم تحديد ذلك خلال مؤتمر يقام في المدرسة ويتم تقييم الأبحاث بشكل عادل ومن ثم  يتم ترشيح الأبحاث بعد ذلك للمشاركة في المؤتمر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87080" y="1117440"/>
            <a:ext cx="104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Simplified Arabic"/>
              </a:rPr>
              <a:t>من يقرر أي الأبحاث تشارك في المؤتمر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208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cs typeface="Traditional Arabic"/>
              </a:rPr>
              <a:t>سيكون هناك </a:t>
            </a: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ea typeface="Traditional Arabic"/>
              </a:rPr>
              <a:t>3</a:t>
            </a: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ea typeface="Traditional Arabic"/>
              </a:rPr>
              <a:t> جوائز ممنوحة في كل مادة :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ذهب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أول ،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فض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ثاني ،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برونز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ثالث وذلك للمرحلتين الاعدادية والمرحلة الثانو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9000" y="857160"/>
            <a:ext cx="430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جوائز الممنو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4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لغة المستخدمة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عربية والانجليزية. فالأبحاث في المواد التالية اللغة الانجليزية ، العلوم ، الرياضيات والأبحاث التكاملية من الممكن أن تكون باللغة العربية أو الانجليزية أما الأبحاث المقدمة في المواد: الدراسات الإسلامية اللغة العربية والدراسات الاجتماعية يجب أن تكون باللغة العرب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40760" y="1340280"/>
            <a:ext cx="52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800" spc="-1" strike="noStrike">
                <a:solidFill>
                  <a:srgbClr val="0da9a9"/>
                </a:solidFill>
                <a:latin typeface="Century Schoolbook"/>
                <a:cs typeface="Traditional Arabic"/>
              </a:rPr>
              <a:t>اللغة المستخدمة</a:t>
            </a:r>
            <a:r>
              <a:rPr b="1" lang="ar-QA" sz="4800" spc="-1" strike="noStrike">
                <a:solidFill>
                  <a:srgbClr val="0da9a9"/>
                </a:solidFill>
                <a:latin typeface="Century Schoolbook"/>
                <a:ea typeface="Traditional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32130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orfa Al Na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 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16880"/>
            <a:ext cx="8064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بحث العلم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تعريف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ثال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8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ميزاته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عيوبه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يحتاج إلى جهد اكبر وقد لا يجده جميع الطلبة ممتع وم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20755200">
            <a:off x="324000" y="1209240"/>
            <a:ext cx="4465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00cc99"/>
                </a:solidFill>
                <a:latin typeface="Comic Sans MS"/>
                <a:cs typeface="Arial"/>
              </a:rPr>
              <a:t>من مسئول عن تدريس البحث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"/>
          <p:cNvSpPr/>
          <p:nvPr/>
        </p:nvSpPr>
        <p:spPr>
          <a:xfrm rot="702600">
            <a:off x="4070520" y="1856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07df8d"/>
                </a:solidFill>
                <a:latin typeface="Comic Sans MS"/>
                <a:cs typeface="Arial"/>
              </a:rPr>
              <a:t>ما هي مهارات البحث التي يجب أن تدرس لكل صف ( الصف السابع- الصف الثاني عشر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891400">
            <a:off x="395280" y="3428640"/>
            <a:ext cx="439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6c554a"/>
                </a:solidFill>
                <a:latin typeface="Century Schoolbook"/>
                <a:cs typeface="Arial"/>
              </a:rPr>
              <a:t>هل يجب ان يقوم جميع الطلبة بعمل بحث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5241960"/>
            <a:ext cx="79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نموذج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حثِ في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لكافة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درسةَ قَد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ْ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ي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ُساعدُ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في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إجابة هذه الأسئلةِ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3-15T10:14:45Z</dcterms:modified>
  <cp:revision>522</cp:revision>
  <dc:subject/>
  <dc:title>No Slide Title</dc:title>
</cp:coreProperties>
</file>